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E1F12-BA73-49AB-B21B-DD8E5A8315B7}" type="slidenum"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3A5E9-8D7C-4709-8435-ECAB8ECC346B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0ECC3-51DB-4133-A224-56B343E157BB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1A9B8-BA03-4EF7-827E-8BF1FA40E188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BD1BF-FF1A-4BC2-BF91-1319FC74270F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E2732-402D-450B-96AD-4298974FC5BC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A813F-A9A6-4557-99DA-B25333E13715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30679-28EC-4AF2-AFFD-E6163670E4AC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9B717-DF7D-4E29-8DF6-D36B598A96A7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A1B0E-B0AF-4409-86B9-5C6648A25111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9A0E3-D30D-442E-87E5-DF83A227E241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BD821-DCE0-4067-BC00-9B63DF0745A3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0FE58-A1BF-4717-8F76-0CD37B37D299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257FE-8A8F-41B4-B1E4-782E4F1F08DB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92730-4E06-450B-91B1-2B592A3B4AEA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FFD48-90AF-48BF-88DD-EF6C9E9FB8E2}" type="slidenum">
              <a:rPr b="0" lang="en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AA4-4DBC-45BC-B801-2FBD1973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174-C779-4755-9CA3-4BBC1877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55F-1B11-4187-B3A7-0CF845C9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A25-391C-45BC-9027-E8AE00CB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3E7F-7A46-45D1-95BC-CFE978FD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5788-CC1A-4F6D-BF36-B5D28F5B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5D87-A00E-4F1A-BD1A-F7F187BD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BD99-309D-49FF-865E-003926A6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A5A6-DB30-4ED7-AA46-EE921CD5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178E-11DB-494C-970C-BA3EDF8E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2A01-AB92-4E14-80DC-48BE3660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FE37-36DB-4DD5-BFCC-80FCC28E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5DF6-B4DD-4FBB-AC8C-FB62E5F6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2006-DBB4-49A2-80B7-0655315E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09F9-1D9D-4D45-AAC1-8D5DAF64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387A-B9F4-4119-98A0-2F2041CB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81C9-5857-4D0E-A3F8-9A6DC083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F6AD-11D1-45BB-94AF-32BEF11F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A75E-5686-485C-AA7C-7F95530F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C25EA-BD38-41A3-A86F-40B92E3A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8839-3D9A-4344-AECD-76D39CAD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A4F2-4CE4-44A3-93E1-DEA891D0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255-92A4-4F7C-80DC-90ED9827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14257-01A3-44CD-8101-B63F9DD5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CCC9-D3CE-446B-8955-75E02CA4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4B6D4-4661-40B2-BDB9-9AB671D7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92F84-A1C2-4023-B51C-42613DFF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F8712-2E9B-413B-A62A-FA21D6CB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740C-D9CF-4B6A-AF24-A8FB8B3F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2BA6D-21B4-4E5F-8A79-31686C28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36A1-1B6F-4793-BDC3-30D0170A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C7806-B38F-4CE1-91F4-42198E71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E8BE3-169A-456A-8967-338E07A3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452-90E3-4E1D-ADF4-DAD3ED91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C7C9-7962-4110-8238-05DEBC88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95062-0834-4016-AD3E-B8F184CF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E51DD-0F25-4F33-9271-657F0A2D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9869-67C9-4E7D-9E61-A05997CF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3E5EF-1DC3-49FA-AEFC-C7AA7DE9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08F7-9E4B-49BB-B595-E11A8105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DAB1E-3051-4854-A6EE-902D56A4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1AAE1-42A3-4DF7-88F5-7FE2D05D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6C958-4D2D-478D-85EF-648F518B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64FA7-3F4B-4CFC-94DE-9153F033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361-0D36-4A2C-93E8-1B8FA7C2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04ABC-8096-481A-BF56-F7CB1C81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E75B9-1BE8-4B89-8673-86B99ABB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095FD-F9CD-43A9-BA37-85E5E99D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CBC8-65E8-46AF-88B9-9D7F265C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3B69F-30E5-4C76-B12B-940D8D16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E678D-8611-4B18-815D-ACA744DC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7BE54-C5DE-4A93-A917-2D6559A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422A2-B383-4561-B851-4AC887DD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A0282-BA48-4D87-9536-84D860CA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5182A-6407-4072-BDD6-FA704B62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897-3945-4B8A-A404-FAD3D6F0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60304-EC78-4EFE-97FD-4C9DD2F4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9B6EB-F6DB-4759-B6F2-AE163853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C2BD2-C3B1-46D1-AD4B-878C0039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A03F4-105E-488F-AD34-338FD510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BCAF0-3DFB-468A-8254-6C4CF099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4BBEA-7225-4D2C-8C9B-124AD7F2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7A910-4E10-4941-BA90-EF5C4EAC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481EF-01E1-4DDF-9646-C3220AD4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8C5A9-28F7-444B-AF56-06F16C13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D9C14-4FB5-41EF-B279-2260CA9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39D-EC15-43A3-8822-C3A6B82F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DDD0-1403-4637-BD94-4BD37377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7DE6-CA4E-4158-B307-C99A14A8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3C564-7F38-4231-BD36-17C10892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0B6C6-539E-4091-A028-D4E1B68B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9A721-AFE8-4557-B6EE-E3FCB766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64929-77AC-4CA2-9798-2EC8B124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86E08-1B39-4CD5-83C7-52CB90E9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17B4B-4680-4ACB-A138-27CA46C9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8915A-A02E-4F36-BA57-A7CFEE96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638EA-441E-42AB-B325-6DB2023B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D74-D611-4DD0-A8CB-76381000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C7850-384D-42B1-A491-DBE311A0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80987-1BFD-43AB-9B47-F7EBF1F5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79DC1-2D14-414E-A94B-AEA70FE4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35C48-EBFC-417B-8523-2B5A5700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1AE23-2F8E-4FBC-99CA-2B51F156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400-D8C2-4005-A1EA-94318191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ebruary 23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IAT 814 Presentationn - DataMe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30EA-8EB1-49B7-89DC-82D42AF095A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ebruary 23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IAT 814 Presentationn - DataMe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045C-CA61-4FB1-B472-BD6B687B4FA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ebruary 23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IAT 814 Presentationn - DataMe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AE98-3CFC-4FED-935D-990FCDC0C6C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ebruary 23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IAT 814 Presentationn - DataMe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A7AC-F7FE-4E21-BC34-40A362C824B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ebruary 23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IAT 814 Presentationn - DataMe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B194-60CA-4210-B345-950A1EB8B3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ebruary 23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IAT 814 Presentationn - DataMe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9812-788C-48D8-BF9B-F20E36BAF8E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February 23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IAT 814 Presentationn - DataMe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1657-3BF7-44B8-A7BF-7A3A2C99436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hsa43@sfu.ca" TargetMode="External"/><Relationship Id="rId3" Type="http://schemas.openxmlformats.org/officeDocument/2006/relationships/hyperlink" Target="mailto:mea18@sfu.ca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asti Seifi, Minoo Erfani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hsa43@sfu.ca </a:t>
            </a:r>
            <a:r>
              <a:rPr b="0" lang="en-CA" sz="1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, </a:t>
            </a:r>
            <a:r>
              <a:rPr b="0" lang="en-CA" sz="1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/>
              </a:rPr>
              <a:t>mea18@sfu.c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IAT 814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March 30, 2009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Subtitle 2"/>
          <p:cNvSpPr/>
          <p:nvPr/>
        </p:nvSpPr>
        <p:spPr>
          <a:xfrm>
            <a:off x="1143000" y="160020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f271c"/>
                </a:solidFill>
                <a:latin typeface="Times New Roman"/>
              </a:rPr>
              <a:t>Visualizing Search Results on Eb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Our Part (cont.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Build three modes in “Flex builder 3” environment with Action Script 3.0 langu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Text Mod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Bull-eye Mode (Arefe’s desig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XY Mode (Our scatter plot desig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Choose appropriate colors using Vische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Conduct a pilot stu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Conduct a user study to compare the three m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3CF4-C0ED-4848-90DC-21D95E85CBF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Text Layout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Picture 4" descr="text-screenshot"/>
          <p:cNvPicPr/>
          <p:nvPr/>
        </p:nvPicPr>
        <p:blipFill>
          <a:blip r:embed="rId2"/>
          <a:srcRect l="0" t="0" r="0" b="3335"/>
          <a:stretch/>
        </p:blipFill>
        <p:spPr>
          <a:xfrm>
            <a:off x="1371600" y="1600200"/>
            <a:ext cx="7315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BULL-eye Design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circular-screenshot"/>
          <p:cNvPicPr/>
          <p:nvPr/>
        </p:nvPicPr>
        <p:blipFill>
          <a:blip r:embed="rId2"/>
          <a:srcRect l="0" t="0" r="0" b="3671"/>
          <a:stretch/>
        </p:blipFill>
        <p:spPr>
          <a:xfrm>
            <a:off x="1447920" y="1600200"/>
            <a:ext cx="7467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XY Design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330A-F483-4869-AED6-D62F6B2A467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7" descr="xy-screenshot"/>
          <p:cNvPicPr/>
          <p:nvPr/>
        </p:nvPicPr>
        <p:blipFill>
          <a:blip r:embed="rId2"/>
          <a:srcRect l="0" t="0" r="0" b="4002"/>
          <a:stretch/>
        </p:blipFill>
        <p:spPr>
          <a:xfrm>
            <a:off x="1143000" y="182880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Pilot Stud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3 subjects to find out possible problems wi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The tool and desig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Tasks and questionnai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0837-9BF0-4A96-8244-F0622CCAE70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User Stud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Variables to measur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Number of icon selection before finalizing the sele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Time to finalizing a sele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Number of wrong answ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Mean, Standard Devi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ANO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6E30-B1E6-4D06-B6F6-1CBCDDCBCF9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ontent Placeholder 2"/>
          <p:cNvSpPr/>
          <p:nvPr/>
        </p:nvSpPr>
        <p:spPr>
          <a:xfrm>
            <a:off x="114300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User Study (cont.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Particip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2 subj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Answering a pre-questionnaire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4612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Demographic questions and about computer skil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Short introduction (perform the first task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Testing se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4612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Performing seven task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Answering a post-questionnaire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4612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e.g. Which interface was more convenient for you to find the answer?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546120" indent="-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546120" indent="-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9C3B-A4B6-492D-971D-F5A54A0EDCF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114300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Referenc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Iconic visualiz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Arefe’s refere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User stud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Proceedings of the 69th Annual Meeting of the American Society for Information Science and Technology. Austin, TX, November 3 – 8, 2006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Proceedings of the 2nd International Conference on Coordinated &amp; Multiple Views in Exploratory Visualization. London, England, July 13, 2004. pp. 39-48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5F4C-2BAD-4BCA-8F72-4497992E469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ontent Placeholder 2"/>
          <p:cNvSpPr/>
          <p:nvPr/>
        </p:nvSpPr>
        <p:spPr>
          <a:xfrm>
            <a:off x="114300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Demo &amp; Ques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259B-F2CE-41A2-81A8-18729F2D362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ontent Placeholder 2"/>
          <p:cNvSpPr/>
          <p:nvPr/>
        </p:nvSpPr>
        <p:spPr>
          <a:xfrm>
            <a:off x="114300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Problem Search on Eba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90360" y="1447560"/>
            <a:ext cx="765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9676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Searching for an i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9676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Can sort results only by one value at a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9676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aving multi criteria in mi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9676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ow to decide based on only one parameter at a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9676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Result: can’t find the “BEST” Mat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9676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37D9-3FC6-464B-A899-62EB633B968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Solution: Dynamic Queri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360" y="1447560"/>
            <a:ext cx="765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282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Allow to formulate queries with graphical widg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9676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query parameters are rapidly adjusted with sliders, buttons…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2440" indent="-282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Provide a graphical visualization of database and search resul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2440" indent="-282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Acting as a filter, reducing the number of items in the result s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9676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9E49-BA48-402E-B158-02B9AC98F1E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What has been don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Arefe Dalvandy’s pro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Identified the probl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Conduct a survey on related techniqu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Icon based Techniqu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Geometric Techniqu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Starfield display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Pixel Oriented Techniqu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Circle Segments Techniqu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Dynamic/ interaction Techniqu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236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Proposed an Icon Desig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3CB9-D39C-4776-B414-CE4F097E694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Proposed Icon Desig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Item is displayed by an Ic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Icon : A  circle which is a combination of ring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Ring: An attribute of the i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Thickness of ring: How much that item is good in that attribu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Color  of  ring:  The  attribute  it  is  represen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Price, Shipping&amp;Price, Distance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Item is new or used: The most interior ring (white=new, black=used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E5A9-29FD-4E9E-BC95-EB1CC432C6A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2"/>
          <a:stretch/>
        </p:blipFill>
        <p:spPr>
          <a:xfrm>
            <a:off x="4191120" y="4572000"/>
            <a:ext cx="14000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Animation in the Icon Desig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Rate of Change in prices: Rotating icons around their interior central axi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2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New bid on an item-&gt;velocity of rotation will incre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DE91-AB2D-458D-890C-54841402C49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Proposed Layout Desig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BULL-eye lay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Polar coordin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Radius value (the distance from the center): Its passed life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Angle (from the horizontal line): Its relevance to the search que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Older  objects: Bigger icons and closer the periphe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8B84-FC3A-49AD-94E7-6EF3AFB4870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Our Part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Proposed a modified desig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Scatter plo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46120" indent="-2286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X axis: Passed life time (radiu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546120" indent="-2286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Y axis: Relevance to search (angl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546120" indent="-2286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Reason for choosing scatter plot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353960" indent="-17280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Angle = 0 : 100% releva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353960" indent="-17280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Angle = 360 : not relevant at al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353960" indent="-17280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But icons are very close in first desig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29988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Do not increase size of older i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46120" indent="-228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Reason : Size may affect correct choi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4026-9C61-408E-8BD1-3E919FE28DD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Our Part (cont.)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Changed animation t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An indicator line in each Ic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Can have one of four position on the icon : 0,90,180,27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Higher values = higher bidding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Rea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Motion is distrac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Icon contains lots of information itsel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mo</dc:creator>
  <dc:description/>
  <dc:language>en-US</dc:language>
  <cp:lastModifiedBy>mea18</cp:lastModifiedBy>
  <dcterms:modified xsi:type="dcterms:W3CDTF">2009-03-30T15:59:38Z</dcterms:modified>
  <cp:revision>444</cp:revision>
  <dc:subject/>
  <dc:title>Slide 1</dc:title>
</cp:coreProperties>
</file>